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E8BCC-A975-4741-B323-EB8FBBEBE9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10134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5960" y="3783600"/>
            <a:ext cx="10134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74152-2F7C-4756-A751-A40FF76C95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960" y="83808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5960" y="378360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68960" y="378360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8A052-6156-46A5-BC25-06C1952A60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32630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2440" y="838080"/>
            <a:ext cx="32630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929280" y="838080"/>
            <a:ext cx="32630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75960" y="3783600"/>
            <a:ext cx="32630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2440" y="3783600"/>
            <a:ext cx="32630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929280" y="3783600"/>
            <a:ext cx="32630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F301E-2C2D-40B6-ADC3-CA3536C339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4FAB0-003C-44C4-A126-BF0A37472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5960" y="838080"/>
            <a:ext cx="1013436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7CEF3-3089-4AD7-A2BB-2D112070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101343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044B6-165B-4498-B73B-756E84A6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49453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68960" y="838080"/>
            <a:ext cx="49453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5BC73-9CC7-45F3-83F9-209E95C1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05B0C-A571-4216-B03F-CA89631A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7632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B4125-DC38-4857-9B12-EB39B92C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68960" y="838080"/>
            <a:ext cx="49453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5960" y="378360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0B66B-A61B-402A-8610-8F0B62C5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75960" y="838080"/>
            <a:ext cx="1013436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B8AD6-2BCE-42F4-843F-E922459C16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49453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68960" y="83808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68960" y="378360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0CD08-A222-4EC3-A1D8-49239D57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960" y="83808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5960" y="3783600"/>
            <a:ext cx="10134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EB160-5D31-41CC-8C1F-97ADA609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10134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5960" y="3783600"/>
            <a:ext cx="10134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6DE5D-993C-4902-ADE3-085B1105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68960" y="83808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5960" y="378360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68960" y="378360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B2F22-D5BE-43AE-9529-629DF2D4B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32630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02440" y="838080"/>
            <a:ext cx="32630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9280" y="838080"/>
            <a:ext cx="32630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5960" y="3783600"/>
            <a:ext cx="32630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02440" y="3783600"/>
            <a:ext cx="32630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929280" y="3783600"/>
            <a:ext cx="32630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47D29-FE84-4BED-B328-0C319551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101343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74D8E-7A02-4E05-A038-147F0E653A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49453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8960" y="838080"/>
            <a:ext cx="49453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DE685-1413-4217-B5D6-C7ADDB7E4C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A71D7-5499-4038-9E91-65071D8FC3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7632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144EE-43BC-4ADA-93F7-DCC4D1B74D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68960" y="838080"/>
            <a:ext cx="49453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960" y="378360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3B50E-510E-4F5F-A169-030821AEC7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49453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68960" y="83808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68960" y="378360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BDD9C-0A8E-4D98-B855-D6FBD0C77B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8960" y="838080"/>
            <a:ext cx="49453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960" y="3783600"/>
            <a:ext cx="10134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EA598-376A-4A20-AEF0-4EC64B1A67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38680"/>
            <a:ext cx="8164440" cy="301932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6692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75960" y="838080"/>
            <a:ext cx="101343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533520" indent="-533520">
              <a:spcBef>
                <a:spcPts val="451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533520" indent="-533520">
              <a:spcBef>
                <a:spcPts val="451"/>
              </a:spcBef>
              <a:buClr>
                <a:srgbClr val="99ccff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533520" indent="-53352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533520" indent="-533520">
              <a:spcBef>
                <a:spcPts val="451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533520" indent="-533520">
              <a:spcBef>
                <a:spcPts val="451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533520" indent="-533520">
              <a:spcBef>
                <a:spcPts val="451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8501040" y="6629040"/>
            <a:ext cx="719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764B-5D09-45C6-ABDD-C54A0622D8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6553080"/>
            <a:ext cx="92203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0" y="838080"/>
            <a:ext cx="92203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9EEB-E6DF-4064-AD74-9C96C832537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CFEE-93F7-4672-8A37-0D38D2C175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99ccff"/>
              </a:buClr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2120" y="1904760"/>
            <a:ext cx="868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i="1" lang="en-GB" sz="4400" spc="-1" strike="noStrike">
                <a:solidFill>
                  <a:srgbClr val="ff0000"/>
                </a:solidFill>
                <a:latin typeface="Comic Sans MS"/>
              </a:rPr>
              <a:t>i-Tasks</a:t>
            </a:r>
            <a:br>
              <a:rPr sz="2800"/>
            </a:br>
            <a:br>
              <a:rPr sz="2800"/>
            </a:b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-</a:t>
            </a:r>
            <a:br>
              <a:rPr sz="2800"/>
            </a:br>
            <a:r>
              <a:rPr b="0" i="1" lang="en-GB" sz="28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nteractive workflow </a:t>
            </a:r>
            <a:r>
              <a:rPr b="0" i="1" lang="en-GB" sz="2800" spc="-1" strike="noStrike">
                <a:solidFill>
                  <a:srgbClr val="ff0000"/>
                </a:solidFill>
                <a:latin typeface="Comic Sans MS"/>
              </a:rPr>
              <a:t>Tasks</a:t>
            </a:r>
            <a:br>
              <a:rPr sz="2800"/>
            </a:br>
            <a:br>
              <a:rPr sz="2800"/>
            </a:b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for the WWWEB</a:t>
            </a:r>
            <a:br>
              <a:rPr sz="2800"/>
            </a:b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___________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5119560"/>
            <a:ext cx="8305920" cy="8319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Rinus Plasmeij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University of Nijmegen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www.cs.ru.nl/~cle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A very small *complete* example IV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imple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(Task [Int]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imple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editTask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"Done" createDefaul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181320" y="2498760"/>
            <a:ext cx="5962680" cy="391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390FD-E532-420F-9408-91FE60F4F4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editTask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editTask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:: String a  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a)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| iData a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// makes an editor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Task a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// an interactive task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lass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 iData 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| gForm {|*|}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,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gUpd  {|*|},  gParse  {|*|}, gPrint  {|*|},  gerda  {|*|}, TC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a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t requires the instantiation of several generic functions for type "a" e.g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html form creation, handling, parsing, printing, data storage, function storage, …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hich can all, on request, automatically be derived by the compiler !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Options can be set: (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&lt;&lt;@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) infix  3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(Task a) b   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Task a 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| setTaskAttr b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Lifespan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Database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TxtFile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ff9900"/>
                </a:solidFill>
                <a:latin typeface="Comic Sans MS"/>
              </a:rPr>
              <a:t>Session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Page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Temp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StorageFormat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StaticDynamic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ff9900"/>
                </a:solidFill>
                <a:latin typeface="Comic Sans MS"/>
              </a:rPr>
              <a:t>PlainString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Mode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00"/>
                </a:solidFill>
                <a:latin typeface="Comic Sans MS"/>
              </a:rPr>
              <a:t>Edit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Submit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Display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NoForm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21E4C-CA36-48B9-9E36-825AE131B2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A very small *complete* example III, Submit, Databas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imple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(Task Person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imple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= (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editTask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"Done" createDefault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&lt;&lt;@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Submit)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&lt;&lt;@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atabas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390920" y="1581120"/>
            <a:ext cx="4753080" cy="497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10998-103F-48D5-BCE3-49583A757E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quencing of tasks / prompting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quencing / composition of tasks (monadic style)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=&gt;&gt;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)  infix  1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(Task a) (a 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Task b)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Task b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#&gt;&gt;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) infixl 1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(Task a) (Task b)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Task b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turning plain values as a Task value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return_V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a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Task a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| iData 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return_D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a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Task a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| iData 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Prompting as long as / as soon as a task is activated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?&gt;&gt;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) infix  5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[BodyTag] (Task a)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Task a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| iData 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!&gt;&gt;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) infix  5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[BodyTag] (Task a)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Task a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| iData 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10580-4BA8-4E0F-868C-5CBF202A1C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quence of iTask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00"/>
                </a:solidFill>
                <a:latin typeface="Comic Sans MS"/>
              </a:rPr>
              <a:t>sumInt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:: (Task Int)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sumIn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a-DK" sz="1600" spc="-1" strike="noStrike">
                <a:solidFill>
                  <a:srgbClr val="ffff00"/>
                </a:solidFill>
                <a:latin typeface="Comic Sans MS"/>
              </a:rPr>
              <a:t>editTask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 "Done"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reateDefault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a-DK" sz="1600" spc="-1" strike="noStrike">
                <a:solidFill>
                  <a:srgbClr val="ffff00"/>
                </a:solidFill>
                <a:latin typeface="Comic Sans MS"/>
              </a:rPr>
              <a:t>=&gt;&gt;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 \</a:t>
            </a:r>
            <a:r>
              <a:rPr b="0" lang="da-DK" sz="1600" spc="-1" strike="noStrike">
                <a:solidFill>
                  <a:srgbClr val="ffcccc"/>
                </a:solidFill>
                <a:latin typeface="Comic Sans MS"/>
              </a:rPr>
              <a:t>v1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 -&gt; 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a-DK" sz="1600" spc="-1" strike="noStrike">
                <a:solidFill>
                  <a:srgbClr val="ffff00"/>
                </a:solidFill>
                <a:latin typeface="Comic Sans MS"/>
              </a:rPr>
              <a:t>editTask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 "Done"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reateDefault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a-DK" sz="1600" spc="-1" strike="noStrike">
                <a:solidFill>
                  <a:srgbClr val="ffff00"/>
                </a:solidFill>
                <a:latin typeface="Comic Sans MS"/>
              </a:rPr>
              <a:t>=&gt;&gt;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 \</a:t>
            </a:r>
            <a:r>
              <a:rPr b="0" lang="da-DK" sz="1600" spc="-1" strike="noStrike">
                <a:solidFill>
                  <a:srgbClr val="ffcccc"/>
                </a:solidFill>
                <a:latin typeface="Comic Sans MS"/>
              </a:rPr>
              <a:t>v2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 -&gt;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[Txt "+", Hr [] ]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a-DK" sz="1600" spc="-1" strike="noStrike">
                <a:solidFill>
                  <a:srgbClr val="ffcc66"/>
                </a:solidFill>
                <a:latin typeface="Comic Sans MS"/>
              </a:rPr>
              <a:t>!&gt;&gt;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da-DK" sz="1600" spc="-1" strike="noStrike">
                <a:solidFill>
                  <a:srgbClr val="ffff00"/>
                </a:solidFill>
                <a:latin typeface="Comic Sans MS"/>
              </a:rPr>
              <a:t>return_D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da-DK" sz="1600" spc="-1" strike="noStrike">
                <a:solidFill>
                  <a:srgbClr val="ffcccc"/>
                </a:solidFill>
                <a:latin typeface="Comic Sans MS"/>
              </a:rPr>
              <a:t>v1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 + </a:t>
            </a:r>
            <a:r>
              <a:rPr b="0" lang="da-DK" sz="1600" spc="-1" strike="noStrike">
                <a:solidFill>
                  <a:srgbClr val="ffcccc"/>
                </a:solidFill>
                <a:latin typeface="Comic Sans MS"/>
              </a:rPr>
              <a:t>v2</a:t>
            </a: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784840" y="2205000"/>
            <a:ext cx="3105000" cy="407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5C7AB-80C5-4AAB-A6D4-AB8D2C37C2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Html cod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 Clean Algebraic Data Type (ADT) is defined isomorphic with Html Cod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400"/>
              </a:spcBef>
              <a:buClr>
                <a:srgbClr val="99cc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Provides a grammar only allowing syntactic "correct" html cod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400"/>
              </a:spcBef>
              <a:buClr>
                <a:srgbClr val="99cc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ype error otherwis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400"/>
              </a:spcBef>
              <a:buClr>
                <a:srgbClr val="99cc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 generic function is used to generate Html code out of i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BodyTag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[A_Attr] [BodyTag]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// link ancor &lt;a&gt;&lt;/a&gt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Abbr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[Std_Attr] String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// abbreviation &lt;abbr&gt;&lt;/abbr&gt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Acronym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[Std_Attr] String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// acronym &lt;acronym&gt;&lt;/acronym&gt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Address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[Std_Attr] String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// address &lt;address&gt;&lt;/address&gt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Applet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[Applet_Attr] String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// applet &lt;applet&gt;&lt;/applet&gt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Area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[Area_Attr]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// link area in an image &lt;area&gt;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[Std_Attr] String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// bold &lt;b&gt;&lt;/b&gt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Txt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String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// plain tex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U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[Std_Attr] String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// underlined text &lt;u&gt;&lt;/u&gt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Ul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[Ul_Attr] [BodyTag]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// unordered list &lt;ul&gt;&lt;/ul&gt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Var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[Std_Attr] String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// variable text &lt;var&gt;&lt;/var&gt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5DA23-4B73-42D9-8B19-18EC7D4823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offeemachine (1/3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035160" y="3618000"/>
            <a:ext cx="5919840" cy="3240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6320" y="1378080"/>
            <a:ext cx="6553080" cy="3585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538440" y="255600"/>
            <a:ext cx="5416560" cy="312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19C0E-B87F-47D5-9B81-64E88DB7AE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All kind of task combinator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Loop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foreverTask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::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a)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a)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| iData a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hoose 1 out of n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chooseTask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::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[(String,Task a)]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a)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| iData a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hoose m out of n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mchoiceTasks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::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[(String,Task a)]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[a])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| iData a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Or task, do all in any order, finish as soon as one complete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-||-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) infixr 3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::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a) (Task a)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a)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| iData a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orTasks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::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[(String,Task a)]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a)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| iData a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nd task, do all in any order, and finish when all completed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-&amp;&amp;-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) infixr 4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::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a) (Task b)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(a,b))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| iData a  &amp; iData b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andTasks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::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[(String,Task a)]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[a])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| iData a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reat user defined function as a new task: enables recursion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newTask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::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String (Task a)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a)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| iData a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0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1F928-7378-4E55-8FE3-E6F659BA9A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offeemachine (2/3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infCoffee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foreverTask_GC CoffeeMachine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CoffeeMachine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:: Task (String, Int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CoffeeMachine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[Txt "Choose product:", Br, Br]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?&gt;&gt;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chooseTask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[ ("Coffee: 100",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return_V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100,"Coffee")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, ("Cappucino: 150",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return_V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150,"Cappucino")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, ("Tee: 50",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return_V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50, "Tee")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, ("Choclate: 100",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return_V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100,"Choclate")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]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&gt;&gt; \(toPay, product) -&gt;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[Txt ("Chosen product: " &lt;+++ product), Br, Br]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?&gt;&gt;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getCoins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toPay, 0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&gt;&gt; \(cancel, returnMoney)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-&gt;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cccc"/>
                </a:solidFill>
                <a:latin typeface="Comic Sans MS"/>
              </a:rPr>
              <a:t>let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nproduct = </a:t>
            </a:r>
            <a:r>
              <a:rPr b="0" lang="en-GB" sz="1600" spc="-1" strike="noStrike">
                <a:solidFill>
                  <a:srgbClr val="ffcccc"/>
                </a:solidFill>
                <a:latin typeface="Comic Sans MS"/>
              </a:rPr>
              <a:t>if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cancel "Cancelled" product </a:t>
            </a:r>
            <a:r>
              <a:rPr b="0" lang="en-GB" sz="1600" spc="-1" strike="noStrike">
                <a:solidFill>
                  <a:srgbClr val="ffcccc"/>
                </a:solidFill>
                <a:latin typeface="Comic Sans MS"/>
              </a:rPr>
              <a:t>in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[Txt ("product = " &lt;+++ nproduct &lt;+++ ",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returned money = " &lt;+++ returnMoney), Br, Br]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?&gt;&gt;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edit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"Thanks" (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return_V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nproduct, returnMoney)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0F3B1-8D6C-434D-819F-D2B3BFCED4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offeemachine (3/3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getCoins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:: (Int, Int) -&gt; Task (Bool, Int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getCoins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toPay, paid) =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new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"getCoins"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getCoins`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wher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getCoins`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[Txt ("To pay: " &lt;+++ toPay), Br, Br]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?&gt;&gt;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choose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[  (i +++&gt; " cts",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return_V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False, i)) \\ c </a:t>
            </a: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coins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]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-||-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edit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"Cancel" (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return_V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True, 0)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&gt;&gt;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handleMoney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handleMoney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cancel, coin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| cancel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return_V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True, paid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| toPay - coin &gt; 0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getCoins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toPay - coin, paid + coin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| otherwise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return_V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False, coin - toPay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coins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[ 5, 10, 20, 50, 100, 200 ]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47234-AAF1-4EFB-9BD5-56A716F76C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omic Sans MS"/>
              </a:rPr>
              <a:t>Clean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8748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400"/>
              </a:spcBef>
              <a:buClr>
                <a:srgbClr val="99cc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State-Of-The-Art Pure Functional Programming Languag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spcBef>
                <a:spcPts val="400"/>
              </a:spcBef>
              <a:buClr>
                <a:srgbClr val="99cc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azy, pure, higher order functions and types, lots of feature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spcBef>
                <a:spcPts val="400"/>
              </a:spcBef>
              <a:buClr>
                <a:srgbClr val="99cc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Clean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is an extended subset of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Haskell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–  de-facto standard (GHC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spcBef>
                <a:spcPts val="400"/>
              </a:spcBef>
              <a:buClr>
                <a:srgbClr val="99cc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Haskell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is an extended subset of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Clean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90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452520">
              <a:lnSpc>
                <a:spcPct val="100000"/>
              </a:lnSpc>
              <a:spcBef>
                <a:spcPts val="400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Some small syntactical and semantical differences, design cho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452520">
              <a:lnSpc>
                <a:spcPct val="100000"/>
              </a:lnSpc>
              <a:spcBef>
                <a:spcPts val="400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Clean has no GADT'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452520">
              <a:lnSpc>
                <a:spcPct val="100000"/>
              </a:lnSpc>
              <a:spcBef>
                <a:spcPts val="400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Extra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facilities in Clean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82320" indent="-376920"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99"/>
                </a:solidFill>
                <a:latin typeface="Comic Sans MS"/>
              </a:rPr>
              <a:t>I/O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: Uniqueness Typing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&lt;-&gt; Monad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82320" indent="-376920"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99"/>
                </a:solidFill>
                <a:latin typeface="Comic Sans MS"/>
              </a:rPr>
              <a:t>Re-usage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: Generic programming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included &lt;-&gt; Generic Haskell preprocessor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82320" indent="-376920"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99"/>
                </a:solidFill>
                <a:latin typeface="Comic Sans MS"/>
              </a:rPr>
              <a:t>Hybrid typing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: Static as well as Dynamic typing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&lt;-&gt; poor man's Dynamic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82320" indent="-376920"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99"/>
                </a:solidFill>
                <a:latin typeface="Comic Sans MS"/>
              </a:rPr>
              <a:t>Type safe plug-inn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823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905040" indent="-452520">
              <a:lnSpc>
                <a:spcPct val="100000"/>
              </a:lnSpc>
              <a:spcBef>
                <a:spcPts val="400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Clean Compiler is much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fast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er (4</a:t>
            </a:r>
            <a:r>
              <a:rPr b="0" lang="en-GB" sz="16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place language shootout, after 3 C compilers !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82320" indent="-376920"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 third party Haskell -&gt; Clean compiler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82320" indent="-376920"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Haskell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/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Clean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code can be combined in next Clean releas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823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1904760" cy="92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44D0C-05FB-40E4-B02D-14B31270E5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Multi-User example: Review Task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18080" y="928800"/>
            <a:ext cx="4541760" cy="5624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5440" y="914400"/>
            <a:ext cx="4462560" cy="571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9E64E-9B2B-4507-A231-32AE2F56F8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Multi-User example: Review Task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6320" y="914400"/>
            <a:ext cx="4521240" cy="56386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681440" y="914400"/>
            <a:ext cx="4462560" cy="571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AB544-EBE6-487D-9B95-768A60FF97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Multi-user combinator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Multi-user 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@: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)  infix 3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(String, </a:t>
            </a:r>
            <a:r>
              <a:rPr b="0" lang="en-US" sz="1600" spc="-1" strike="noStrike">
                <a:solidFill>
                  <a:srgbClr val="99ff99"/>
                </a:solidFill>
                <a:latin typeface="Comic Sans MS"/>
              </a:rPr>
              <a:t>Int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) (Task a)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a)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| iData 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@::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) infix 3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</a:t>
            </a:r>
            <a:r>
              <a:rPr b="0" lang="en-US" sz="1600" spc="-1" strike="noStrike">
                <a:solidFill>
                  <a:srgbClr val="99ff99"/>
                </a:solidFill>
                <a:latin typeface="Comic Sans MS"/>
              </a:rPr>
              <a:t>Int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a)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a)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| iData 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B32CE-844A-4126-8418-7C02A922FD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Review Task (1/3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:: ReviewState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Approved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Cancelled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NeedsRework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 TextArea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Draf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reviewTask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a 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Review)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| iData 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reviewTask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v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= [toHtml v, Br, Br]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00"/>
                </a:solidFill>
                <a:latin typeface="Comic Sans MS"/>
              </a:rPr>
              <a:t>?&gt;&gt;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chooseTask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[ ("Rework",   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editTask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"Done" (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NeedsRework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createDefault)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&lt;&lt;@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Submit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, ("Approved",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return_V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Approved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, ("Reject",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return_V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Rejected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]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9C796-0769-40CB-B53E-15E954948E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Review Task (2/3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taskToReview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:: Int (a, a 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Task a) 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Task (a, Review) 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| iData 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taskToReview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99ff99"/>
                </a:solidFill>
                <a:latin typeface="Comic Sans MS"/>
              </a:rPr>
              <a:t>reviewer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val, task)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new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"taskToReview"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taskToReview`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wher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taskToReview`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task val              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=&gt;&gt;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\newval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99ff99"/>
                </a:solidFill>
                <a:latin typeface="Comic Sans MS"/>
              </a:rPr>
              <a:t>reviewer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99"/>
                </a:solidFill>
                <a:latin typeface="Comic Sans MS"/>
              </a:rPr>
              <a:t>@::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review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newval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=&gt;&gt;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\review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[Txt ("Reviewer " &lt;+++ </a:t>
            </a:r>
            <a:r>
              <a:rPr b="0" lang="en-GB" sz="1600" spc="-1" strike="noStrike">
                <a:solidFill>
                  <a:srgbClr val="99ff99"/>
                </a:solidFill>
                <a:latin typeface="Comic Sans MS"/>
              </a:rPr>
              <a:t>reviewer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&lt;+++ " says ") , toHtml review, Br]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?&gt;&gt;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edit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"OK" Void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#&gt;&gt;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cccc"/>
                </a:solidFill>
                <a:latin typeface="Comic Sans MS"/>
              </a:rPr>
              <a:t>case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review </a:t>
            </a:r>
            <a:r>
              <a:rPr b="0" lang="en-GB" sz="1600" spc="-1" strike="noStrike">
                <a:solidFill>
                  <a:srgbClr val="ffcccc"/>
                </a:solidFill>
                <a:latin typeface="Comic Sans MS"/>
              </a:rPr>
              <a:t>of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NeedsRewor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_)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taskToReview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99ff99"/>
                </a:solidFill>
                <a:latin typeface="Comic Sans MS"/>
              </a:rPr>
              <a:t>reviewer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newval, task)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else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 return_V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newval, review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4F062-541A-424E-B25F-A63262E85B0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Review Task (3/3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9909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:: QForm = 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{ 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toComp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:: String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, 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startDate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:: HtmlDat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, 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endDate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:: HtmlDat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, 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estimatedHours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:: In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, 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description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:: TextAre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, 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price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:: Real 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startTask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 :: Task (QForm, Review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start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taskToReview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99ff99"/>
                </a:solidFill>
                <a:latin typeface="Comic Sans MS"/>
              </a:rPr>
              <a:t>1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createDefault,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my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my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:: a 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 (Task a)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| iData 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my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v = [Txt "Fill in Form:", Br, Br]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ffcc66"/>
                </a:solidFill>
                <a:latin typeface="Comic Sans MS"/>
              </a:rPr>
              <a:t>?&gt;&gt;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edit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"TaskDone" v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&lt;&lt;@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Submi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6EE88-2803-4411-BF2D-6B2C94D4979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Higher-Order Task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asks not only deliver values, they may deliver a task under development !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TClosure a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TClosure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a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Maybe a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Just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a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|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Nothing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orTask variant: a task is either finished, or interrupted if the stop task is finished sooner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-!&gt;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) infix 4  ::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(Task stop) (Task a) -&gt; (Task (Maybe stop, TClosure a)) 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| iData stop &amp; iData a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658D4-DC60-45CE-8613-3ADC873E841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Multi-User example: delegate a task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6320" y="838080"/>
            <a:ext cx="3278160" cy="2495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548160" y="898560"/>
            <a:ext cx="3321000" cy="24350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76320" y="3916440"/>
            <a:ext cx="3238560" cy="2536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3354480" y="3691080"/>
            <a:ext cx="2703600" cy="2762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6219720" y="3691080"/>
            <a:ext cx="2703600" cy="276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1A69A-BEBF-43FB-A7CB-FAB48DEEB59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Delegate a Task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9909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delegateToSomeone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:: Int (Task a) [Int] </a:t>
            </a:r>
            <a:r>
              <a:rPr b="1" lang="en-US" sz="1600" spc="-1" strike="noStrike">
                <a:solidFill>
                  <a:srgbClr val="ff99ff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ff99ff"/>
                </a:solidFill>
                <a:latin typeface="Comic Sans MS"/>
              </a:rPr>
              <a:t> (Task a)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| iData 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delegateToSomeone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99ff99"/>
                </a:solidFill>
                <a:latin typeface="Comic Sans MS"/>
              </a:rPr>
              <a:t>me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task set =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new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"delegateToSomeone"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doDelegat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wher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doDelegate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orTasks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[ ("Waiting for " &lt;+++ who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,  </a:t>
            </a:r>
            <a:r>
              <a:rPr b="0" lang="en-GB" sz="1600" spc="-1" strike="noStrike">
                <a:solidFill>
                  <a:srgbClr val="99ff99"/>
                </a:solidFill>
                <a:latin typeface="Comic Sans MS"/>
              </a:rPr>
              <a:t>who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99"/>
                </a:solidFill>
                <a:latin typeface="Comic Sans MS"/>
              </a:rPr>
              <a:t>@::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choose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[("I Will Do It“,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return_V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who)]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) \\ </a:t>
            </a:r>
            <a:r>
              <a:rPr b="0" lang="en-GB" sz="1600" spc="-1" strike="noStrike">
                <a:solidFill>
                  <a:srgbClr val="99ff99"/>
                </a:solidFill>
                <a:latin typeface="Comic Sans MS"/>
              </a:rPr>
              <a:t>who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set ]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&gt;&gt; \</a:t>
            </a:r>
            <a:r>
              <a:rPr b="0" lang="en-GB" sz="1600" spc="-1" strike="noStrike">
                <a:solidFill>
                  <a:srgbClr val="99ff99"/>
                </a:solidFill>
                <a:latin typeface="Comic Sans MS"/>
              </a:rPr>
              <a:t>volunteer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99ff99"/>
                </a:solidFill>
                <a:latin typeface="Comic Sans MS"/>
              </a:rPr>
              <a:t>volunteer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99"/>
                </a:solidFill>
                <a:latin typeface="Comic Sans MS"/>
              </a:rPr>
              <a:t>@::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topIt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99"/>
                </a:solidFill>
                <a:latin typeface="Comic Sans MS"/>
              </a:rPr>
              <a:t>-!&gt;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&gt;&gt; \(stopped,TClosure task)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cccc"/>
                </a:solidFill>
                <a:latin typeface="Comic Sans MS"/>
              </a:rPr>
              <a:t>if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isJust stopped)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delegateToSomeone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99ff99"/>
                </a:solidFill>
                <a:latin typeface="Comic Sans MS"/>
              </a:rPr>
              <a:t>me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task set) task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topIt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 stop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-||-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en-GB" sz="1600" spc="-1" strike="noStrike">
                <a:solidFill>
                  <a:srgbClr val="99ff99"/>
                </a:solidFill>
                <a:latin typeface="Comic Sans MS"/>
              </a:rPr>
              <a:t>me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9999"/>
                </a:solidFill>
                <a:latin typeface="Comic Sans MS"/>
              </a:rPr>
              <a:t>@::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stop)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stop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chooseTask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[("Stop“,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 return_V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True)]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0B5F0-A306-4B49-A969-7DEB3902F65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onclusions  and Future Work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9909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389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89160" indent="-38916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Conclusion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89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667440" indent="-33372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mpact notation, many details are handled automatical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45360" indent="-27792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very intuitive for functional programmer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945360" indent="-27792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for others programmers ???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667440" indent="-33372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l "standard" workflows patterns offe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45360" indent="-27792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Graphical workflow diagrams can be translated to iTasks cod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667440" indent="-33372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ffers a lot of additional expressive pow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45360" indent="-27792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More complicated real world workflow situations can be defined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667440" indent="-33372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ighly re-usable c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Future Wor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7440" indent="-33372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how applicability via larger real world applic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45360" indent="-27792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Web shop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945360" indent="-27792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Conference management system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667440" indent="-33372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mbine with Client side evalu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45360" indent="-27792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Clean interpreter running in browser, “Ajax” technology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667440" indent="-33372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tegrate with main stream web development tools (Dreamweave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7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75A78-C35C-48A4-A32A-D06C5A27E99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Why workflows?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8748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400"/>
              </a:spcBef>
              <a:buClr>
                <a:srgbClr val="99cc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STW project “Demand Driven Workflows”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New approach on specifying workflows making use of "lazy evaluation"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University: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TU Eindhoven (Van der Aalst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RadBoud University Nijmegen (Plasmeijer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Industry: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Palas Athena (Eindhoven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ABZ (Utrecht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AIA (Nijmegen)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400"/>
              </a:spcBef>
              <a:buClr>
                <a:srgbClr val="99cc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i-Task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"Simple" approach to make a quick star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Already offers more functionality than commercial systems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A4296-30FB-4019-B38F-378D6D74C3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iTask Approach I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533520" y="690480"/>
            <a:ext cx="99093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Study “Workflow Patterns”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Van der Aalst, ter Hofstede, Kiepuszewski, Barro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&gt; 30 products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: Staffware, Cosa, InConcert, Eastman Software, FLOWer,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Domino Workflow, Meteor, Mobile, MQSeries, Forte Conductor,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Verve, Visual WorkFlo, Changengine, I-Flow, SAP R/3 Workflow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patterns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: sequence, recursion, exclusive choice, multiple choice,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split/merge (parallel or, parallel and, discriminator), ...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00"/>
                </a:solidFill>
                <a:latin typeface="Comic Sans MS"/>
              </a:rPr>
              <a:t>All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 Workflow Patterns can "straightforwardly" be implemented in Cle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Using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i-Data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: Clean library for handling interactive web form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Using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generic functions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: highly reusable functions, given a type they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generate a (typed) html form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deal with a change made by a user in a form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enable separation between model (value returned) and view (the looks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automatically store and retrieve info in a file or databas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8EC47-2252-4F8B-AD63-F0F3ED9970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iTask Approach II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533520" y="690480"/>
            <a:ext cx="99093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Disadvantages over Commercial System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No nice graphical interface for defining workflows: just Clean cod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A first version, limited interfaces to real world, lots of additional wishe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Advantages over Commercial System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Declarative, executable specification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Workflows are statically typed, input type checked as well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Highly reusable code: polymorphic, overloaded, generic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Workflows are dynamically constructed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Flow can depend on the actual content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Fully compositional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Higher order: a workflow can be a workflow -&gt; shift work to someone els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It generates a multi-user web enabled (!) workflow system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&lt; 1000 lines of code based on Clean’s i-Data library for the web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D038A-2C8E-46C5-A56E-5F95E53205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A very small *complete* example I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module exampl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import StdEnv, StdHtml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art world = doHtmlServer (singleUserTask 0 True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imple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) world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imple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(Task Int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imple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editTask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"Done" createDefaul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57640" y="3081240"/>
            <a:ext cx="4086360" cy="330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33D6C-F4C8-48F1-9AE7-F4E914F78D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A very small *complete* example II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module exampl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import StdEnv, StdHtml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art world = doHtmlServer (singleUserTask 0 True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imple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) world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imple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(Task (Int, Real)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imple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editTask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"Done" createDefaul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836960" y="3092400"/>
            <a:ext cx="4086360" cy="330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BD6B1-F33E-49C8-A135-CE4A8E68AA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A very small *complete* example III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Person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{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name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String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,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street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String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,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number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In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,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zipCode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String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,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town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  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String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, </a:t>
            </a: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born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HtmlDat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imple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(Task Person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imple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editTask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"Done" createDefaul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derive gForm Person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derive gUpd   Person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derive gParse Person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derive gPrint  Person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Comic Sans MS"/>
              </a:rPr>
              <a:t>derive gerda  Person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0" y="2019240"/>
            <a:ext cx="4514760" cy="45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6E797-413E-4381-9E79-D178817E3A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A very small *complete* example III Submit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11160" y="914040"/>
            <a:ext cx="9909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imple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:: (Task Person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imple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editTask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"Done" createDefault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&lt;&lt;@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Submi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390920" y="1581120"/>
            <a:ext cx="4753080" cy="497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B38FD-6495-4BE6-AB0A-BCE7198A89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0T22:01:42Z</dcterms:created>
  <dc:creator>rinus</dc:creator>
  <dc:description/>
  <dc:language>en-US</dc:language>
  <cp:lastModifiedBy>rinus</cp:lastModifiedBy>
  <dcterms:modified xsi:type="dcterms:W3CDTF">2007-05-20T09:50:00Z</dcterms:modified>
  <cp:revision>1532</cp:revision>
  <dc:subject/>
  <dc:title>  i-Tasks  - interactive workflow tasks  for the WEB ___________   WORK IN PROGRESS  </dc:title>
</cp:coreProperties>
</file>